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58.jpeg" ContentType="image/jpeg"/>
  <Override PartName="/ppt/media/image57.jpeg" ContentType="image/jpeg"/>
  <Override PartName="/ppt/media/image63.png" ContentType="image/png"/>
  <Override PartName="/ppt/media/image56.wmf" ContentType="image/x-wmf"/>
  <Override PartName="/ppt/media/image55.jpeg" ContentType="image/jpeg"/>
  <Override PartName="/ppt/media/image54.jpeg" ContentType="image/jpeg"/>
  <Override PartName="/ppt/media/image52.png" ContentType="image/png"/>
  <Override PartName="/ppt/media/image50.jpeg" ContentType="image/jpeg"/>
  <Override PartName="/ppt/media/image5.jpeg" ContentType="image/jpeg"/>
  <Override PartName="/ppt/media/image48.wmf" ContentType="image/x-wmf"/>
  <Override PartName="/ppt/media/image33.jpeg" ContentType="image/jpeg"/>
  <Override PartName="/ppt/media/image27.png" ContentType="image/png"/>
  <Override PartName="/ppt/media/image4.jpeg" ContentType="image/jpeg"/>
  <Override PartName="/ppt/media/image61.jpeg" ContentType="image/jpeg"/>
  <Override PartName="/ppt/media/image12.png" ContentType="image/png"/>
  <Override PartName="/ppt/media/image7.jpeg" ContentType="image/jpeg"/>
  <Override PartName="/ppt/media/image64.jpeg" ContentType="image/jpeg"/>
  <Override PartName="/ppt/media/image1.wmf" ContentType="image/x-wmf"/>
  <Override PartName="/ppt/media/image14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11.gif" ContentType="image/gif"/>
  <Override PartName="/ppt/media/image67.jpeg" ContentType="image/jpeg"/>
  <Override PartName="/ppt/media/image19.wmf" ContentType="image/x-wmf"/>
  <Override PartName="/ppt/media/image29.png" ContentType="image/png"/>
  <Override PartName="/ppt/media/image65.jpeg" ContentType="image/jpeg"/>
  <Override PartName="/ppt/media/image62.jpeg" ContentType="image/jpeg"/>
  <Override PartName="/ppt/media/image41.wmf" ContentType="image/x-wmf"/>
  <Override PartName="/ppt/media/image17.jpeg" ContentType="image/jpeg"/>
  <Override PartName="/ppt/media/image22.png" ContentType="image/png"/>
  <Override PartName="/ppt/media/image24.jpeg" ContentType="image/jpeg"/>
  <Override PartName="/ppt/media/image3.jpeg" ContentType="image/jpeg"/>
  <Override PartName="/ppt/media/image59.png" ContentType="image/png"/>
  <Override PartName="/ppt/media/image66.jpeg" ContentType="image/jpeg"/>
  <Override PartName="/ppt/media/image16.jpeg" ContentType="image/jpeg"/>
  <Override PartName="/ppt/media/image18.jpeg" ContentType="image/jpeg"/>
  <Override PartName="/ppt/media/image60.jpeg" ContentType="image/jpeg"/>
  <Override PartName="/ppt/media/image21.wmf" ContentType="image/x-wmf"/>
  <Override PartName="/ppt/media/image28.jpeg" ContentType="image/jpeg"/>
  <Override PartName="/ppt/media/image51.jpeg" ContentType="image/jpeg"/>
  <Override PartName="/ppt/media/image8.jpeg" ContentType="image/jpeg"/>
  <Override PartName="/ppt/media/image26.png" ContentType="image/png"/>
  <Override PartName="/ppt/media/image10.gif" ContentType="image/gif"/>
  <Override PartName="/ppt/media/image53.jpeg" ContentType="image/jpeg"/>
  <Override PartName="/ppt/media/image20.jpeg" ContentType="image/jpeg"/>
  <Override PartName="/ppt/media/image30.jpeg" ContentType="image/jpeg"/>
  <Override PartName="/ppt/media/image37.wmf" ContentType="image/x-wmf"/>
  <Override PartName="/ppt/media/image31.jpeg" ContentType="image/jpeg"/>
  <Override PartName="/ppt/media/image47.wmf" ContentType="image/x-wmf"/>
  <Override PartName="/ppt/media/image13.jpeg" ContentType="image/jpeg"/>
  <Override PartName="/ppt/media/image38.wmf" ContentType="image/x-wmf"/>
  <Override PartName="/ppt/media/image32.jpeg" ContentType="image/jpeg"/>
  <Override PartName="/ppt/media/image34.jpeg" ContentType="image/jpeg"/>
  <Override PartName="/ppt/media/image40.wmf" ContentType="image/x-wmf"/>
  <Override PartName="/ppt/media/image6.png" ContentType="image/png"/>
  <Override PartName="/ppt/media/image35.jpeg" ContentType="image/jpeg"/>
  <Override PartName="/ppt/media/image36.wmf" ContentType="image/x-wmf"/>
  <Override PartName="/ppt/media/image39.wmf" ContentType="image/x-wmf"/>
  <Override PartName="/ppt/media/image23.jpeg" ContentType="image/jpeg"/>
  <Override PartName="/ppt/media/image42.wmf" ContentType="image/x-wmf"/>
  <Override PartName="/ppt/media/image43.jpeg" ContentType="image/jpeg"/>
  <Override PartName="/ppt/media/image44.jpeg" ContentType="image/jpeg"/>
  <Override PartName="/ppt/media/image45.jpeg" ContentType="image/jpeg"/>
  <Override PartName="/ppt/media/image9.gif" ContentType="image/gif"/>
  <Override PartName="/ppt/media/image46.wmf" ContentType="image/x-wmf"/>
  <Override PartName="/ppt/media/image4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D042-0B73-4AE5-99D1-A098370CC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8E87-D6BC-42F5-95BE-4D6D2DA92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BB9C-3C12-4EBA-9BDE-EFA2FD78A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8CD7-0970-46AE-B27D-1F9D5B506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8FAD-6DBF-4EA3-9EF5-BB03626A0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53E0-69CC-424D-9E4E-2620CFCFC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4BD1-6DCF-4EC2-AFC2-A0D6D4739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59D5-40D1-49DF-B384-D3A040182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2189-9E0C-46C6-85A4-CA84348D7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01CC-BEAB-4967-A8B6-F1DA6F5ED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DAB8-8D9D-4A69-BA82-5D8FD9243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D400-2B08-4845-9448-5D38EA3ED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3B8B-8A51-4647-9793-6D6CB82E1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C188-8DCD-456C-BBDD-2A4F575B2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8B5D-A2FF-4462-ABFC-6BC9B7AFD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C241-BD8D-4078-AA57-5D32EE309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8030-C2E2-41A9-AE07-AAE0A0A20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4B13-8C57-4624-8A61-FDED5785B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8B22-16E5-4906-9324-A9ED64651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29F3-6373-458E-9481-2BFDD6397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BFB3-7600-4444-9756-52E8EC403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5212-6AB5-4378-B39F-38819ED4C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BE9A-1641-407A-9B30-F8547735F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C469-76E8-4E6D-AFA4-E93F2295A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542D-93E6-4402-82F8-65F132C19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CF0E-B0F1-48E1-8FD7-8DAFB71DA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9205-C5D5-4385-A3BA-660B3311C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0E1E-6F1A-45DA-8358-C50E57ACE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B30B-D70C-4AF5-8D4A-C01511D04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6052-E8A5-433B-AF2F-83AB18607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34E8-13E4-4EEF-BC02-8882441A9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FF07-E95B-4CA5-9B97-FDA91F91D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FC58-F380-4E45-9ED6-616016CD3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61D2-048E-41D3-8BAE-33BD95F9A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26FD-4A25-4241-9440-3DDA4B148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B4FA-A851-4B10-A3D8-B8A643FF4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2B9B-6F9F-4140-8978-E0FE6AD87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2A7D-D070-4D44-89C0-BB96B3ED0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CDB9-E623-4426-BFC5-EEE6DEA5B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933E-5644-42DF-893C-EB02C6635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FE85-807F-444C-89C4-4BAF13F88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DB9A-7FFB-48F5-A63C-D72C8DF9E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C445-DFA9-41DE-A488-571871A1F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4B2F-C090-40EE-8DAF-CF374130C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EA2E-4054-4F7A-8D50-7DD89F55F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1C10-EDE4-4096-BF17-DB59AA831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1682-421F-41D7-A113-A29786D3A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B180-7E51-49DD-A77C-6146751CE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8457-A4DE-4768-86B8-4D41E499D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5C01-4B83-4A36-BB9E-872C1ABE0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BBD4-46F9-44BD-A409-099F98196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FB2A-186F-4156-A257-4B1E18ED4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26E2-CB97-4EC9-9415-00ABE081B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1BD6-7861-474C-A88E-7458096F8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D481-82D2-424C-9F72-EA0540323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C77A-4D23-4297-87CB-02105C633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8127-14D7-4A18-8A4F-488CB3168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DE2A-5992-466B-BAB9-9E4DF2F4B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8FC0-6E7A-4353-B5D8-27DE08B9F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EDD5-4926-4210-8F83-78884B020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FAEF-F925-4701-9F98-447277328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A87B-EC9A-4F39-B21E-36E11A8F9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C189-9A8E-467C-B31B-66052383C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D114-F23E-4674-ACB9-93D7F99D0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E219-D352-4681-B95D-460973063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4DD1-F18F-4704-8536-80152E9A0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1692-0E2B-4F09-86BA-83CBCEDEA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4527-E510-4AE4-A103-9F39EBDB6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29BB-AFA8-4DF3-94C7-C0E9F0AB3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B380-8587-4BA5-BF89-CFFD89287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FD14-BBBC-4AAF-A158-9550C8E93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3D71-71A9-4957-86C3-3E6326500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D3CF-306F-4228-9C07-9C8B7BB17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0188-9A31-478D-9C6A-F2D01677D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C2FA-7C2F-4A91-89E1-51BA17162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6A45-B695-4D37-AD14-15EE05119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F175-521E-44CE-8E89-267A7D3C1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E49C-7158-447F-92F6-265CDF02E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4034-7946-429B-82F3-6FEA02AEB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513D-DD3C-4513-895E-4EAE4FADC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9148-6750-4593-81AE-8F27E4698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F291-BA89-4A32-99CA-F0FFB69ED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BA9B-2837-44C6-A947-DE225ACD9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B44D-30CD-40E1-8F95-F259542D1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B743-C9C0-4E52-9376-5817C2EFA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16B8-EA6B-4768-89EE-BB29B77E6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C6D8-85AC-466A-BAEC-0DF09E0F7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269A-6162-41A8-9C37-8287E2042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3250-3218-4E9A-A533-BA751E0D2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2A9A-14EA-4C83-9B8D-3791586F4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2797-23B6-4B85-B5FF-D98C0EEF5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0158-E509-41B8-A80D-1D1AC996C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A44E-9D0E-4BAE-B368-9146ED84F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E8A0-D939-47A6-B2E9-B0697A24E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9AD8-E059-494A-A0B0-A39BFBACE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D781-F4A3-4899-AB06-02DD73576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0A04-9865-4520-A8EE-D96B9745D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E670-2FBE-4546-9891-5E41B40BF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E4A7-F283-4995-81D6-354DF8215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652D-412B-4432-8F7D-AFB06AFB9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ABE9-C0A1-490F-B8A5-D833910BA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02D7-A20A-4C7E-8D3C-B7025ED8B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3E8A-5036-4A52-A5AB-E5878292A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9CF-03DC-48FC-B9FA-5FF706C3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505-B363-425E-8A05-9F5271AA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9458-2ED3-427C-BE66-DAC12568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D2A-279E-43D4-8240-33152FF8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D3B0-998F-4FB3-89FC-D8C7ED0E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17F7-9D6B-4242-8078-8B6C21D7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35AE-378F-4E44-95A9-6E856586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114E-70F6-49D6-B73F-639DA17C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3A9E-65D5-4FC7-B354-EC0A1450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BC5A-E3DB-48CE-8CE1-C5622079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6B15-D3D8-48E2-8252-B57B2FBF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D33-6BE4-4DBF-B609-576ABCE4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02DF-5398-4993-BADA-15B0BEC1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5CDC-079B-4D2E-9BFE-BD6A75D8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3520-15BD-4758-BC81-B96F8E51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8EBA-86BA-4D65-8965-91A02A7B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12F4-B889-4B50-A206-F6FE2F77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371-63F7-4B0E-864C-D7C2203B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871-88AB-4D9C-8A10-F05D73F6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209-FB20-4BA9-944F-287BF506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C2E-3C04-4BB9-93C4-787CD882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CDE-2661-4F64-BE90-1466F621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F2F-6607-48A4-A809-AA573F09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4CE-9270-4230-A575-08B9675A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09C9-EB3B-44BF-A746-155B97D930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6190-3BBF-43C8-AE3B-D508881E5E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Ravie"/>
              </a:rPr>
              <a:t>APES year in re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Object 1030"/>
          <p:cNvGraphicFramePr/>
          <p:nvPr/>
        </p:nvGraphicFramePr>
        <p:xfrm>
          <a:off x="685800" y="2819520"/>
          <a:ext cx="3473280" cy="34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347328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AutoShape 1032"/>
          <p:cNvSpPr/>
          <p:nvPr/>
        </p:nvSpPr>
        <p:spPr>
          <a:xfrm>
            <a:off x="4648320" y="1600200"/>
            <a:ext cx="3352680" cy="2209680"/>
          </a:xfrm>
          <a:prstGeom prst="cloudCallout">
            <a:avLst>
              <a:gd name="adj1" fmla="val -57814"/>
              <a:gd name="adj2" fmla="val 4726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410080" y="19051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 Black"/>
              </a:rPr>
              <a:t>Let’s all get a 5 on this year’s tes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Poor Richard"/>
              </a:rPr>
              <a:t>Ecosys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838080" y="1752480"/>
            <a:ext cx="731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Levels of organization of mat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ver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cosphere/biosphe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cosys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mun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pul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s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l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to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Ravie"/>
              </a:rPr>
              <a:t>Sources of air pollu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Natural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. Sulfur: Volcanoes, sea spray, microbi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. Nitrogen oxides: lightening, forest fires, microbi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Anthropogenic (human caused)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. Sulfur oxides: coal burning plants, industry, fossil fuel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. Nitrogen oxides: power plants, industrial fuel combustion, transport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. Effect areas hundreds of miles from the source of emissions, generally not the whole glob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6" descr="catposition"/>
          <p:cNvPicPr/>
          <p:nvPr/>
        </p:nvPicPr>
        <p:blipFill>
          <a:blip r:embed="rId1"/>
          <a:stretch/>
        </p:blipFill>
        <p:spPr>
          <a:xfrm>
            <a:off x="5638680" y="1819440"/>
            <a:ext cx="3276720" cy="1703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Ravie"/>
              </a:rPr>
              <a:t>Solutions: Reducing Emiss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st way = Conservation, just use les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leaner burning gasolin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ncreased fuel efficiency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lternative modes of transport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ecrease the number of miles drive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s in land use decis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talytic conver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5" descr="electriccar1a"/>
          <p:cNvPicPr/>
          <p:nvPr/>
        </p:nvPicPr>
        <p:blipFill>
          <a:blip r:embed="rId2"/>
          <a:stretch/>
        </p:blipFill>
        <p:spPr>
          <a:xfrm>
            <a:off x="6324480" y="3581280"/>
            <a:ext cx="2475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Ravie"/>
              </a:rPr>
              <a:t>Output Contro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ubbers: exhaust fumes through a spray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containing lime (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. Coal washing to get rid of sulf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. Fluidized bed combustion (produces a waste ash that must be disposed o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5" descr="Coal%20Scrubbers"/>
          <p:cNvPicPr/>
          <p:nvPr/>
        </p:nvPicPr>
        <p:blipFill>
          <a:blip r:embed="rId1"/>
          <a:stretch/>
        </p:blipFill>
        <p:spPr>
          <a:xfrm>
            <a:off x="5211720" y="1905120"/>
            <a:ext cx="347508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143000" y="25905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Plants and animals interacting with their abiotic environment.  Ecosystems exist in biom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Climate – ave temperature over ti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*Weather – daily variations in temp and precipit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Microclimate and Other Abiotic Facto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* light intens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* Soil typ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* topograph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3" descr="ecomenu"/>
          <p:cNvPicPr/>
          <p:nvPr/>
        </p:nvPicPr>
        <p:blipFill>
          <a:blip r:embed="rId1"/>
          <a:stretch/>
        </p:blipFill>
        <p:spPr>
          <a:xfrm>
            <a:off x="4419720" y="304920"/>
            <a:ext cx="3695760" cy="2166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80880" y="83808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Poor Richard"/>
              </a:rPr>
              <a:t>Trophic Relationshi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Food web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Trophic leve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*  produc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* herbiv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*primary carniv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1124"/>
          <p:cNvPicPr/>
          <p:nvPr/>
        </p:nvPicPr>
        <p:blipFill>
          <a:blip r:embed="rId1"/>
          <a:stretch/>
        </p:blipFill>
        <p:spPr>
          <a:xfrm>
            <a:off x="4648320" y="2057400"/>
            <a:ext cx="3733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Poor Richard"/>
              </a:rPr>
              <a:t>Biomass and Biomass Pyrami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All biomass gets its energy from the su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Only 10% of  energy from one trophic level moves to the next trophic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Energy released is high potential energy molecules (like glucose) then converted to low potential energy molecules (like carbon dioxid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* concept of eating lower on the biomass pyramid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Poor Richard"/>
              </a:rPr>
              <a:t>Relationship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90720" y="25142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Mutua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* Flowers &amp; ins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Commensa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Predator/pre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host parasi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Compet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Poor Richard"/>
              </a:rPr>
              <a:t>habitat vs. nich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AG00142_"/>
          <p:cNvPicPr/>
          <p:nvPr/>
        </p:nvPicPr>
        <p:blipFill>
          <a:blip r:embed="rId1"/>
          <a:stretch/>
        </p:blipFill>
        <p:spPr>
          <a:xfrm>
            <a:off x="6248520" y="228600"/>
            <a:ext cx="1706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Poor Richard"/>
              </a:rPr>
              <a:t>Limiting Facto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Temperature, light, oxygen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carbon dioxide, precipit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Optimum leve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Zones of str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Limits of Toler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Range of Toler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Synergistic effects – The interaction of two or more factors is greater than the sum of the effects when each acts alone. Example: pollution and disea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4" descr="j0076206"/>
          <p:cNvPicPr/>
          <p:nvPr/>
        </p:nvPicPr>
        <p:blipFill>
          <a:blip r:embed="rId1"/>
          <a:stretch/>
        </p:blipFill>
        <p:spPr>
          <a:xfrm>
            <a:off x="6400800" y="838080"/>
            <a:ext cx="2362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osystems, how they 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523880" y="2590920"/>
            <a:ext cx="7391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ycle or D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matter is recycled through the lithosphere, hydrosphere, and atmosphe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hing is created nothing is destroy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stable ecosystems recycle matter and get energy from the s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hys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ergy is measured in calo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lorie – amount of heat needed to raise 1 gram of water 1 degree Celsiu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ilocalorie = 1,000 calori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law of thermodynamic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ergy cannot be created nor destroyed, only change forms (light to chemical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law of thermodynamic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ergy transformation increases disorder (entropy) of the univers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at is the lowest grade of energ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emistry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toms –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asic units of mat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ectr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t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utr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hemical bonds -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atoms are held togeth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Ion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Coval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Molecule/compound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two or more atoms bonded togeth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H sca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Base/alka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ci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rganic Compoun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-C bonds and/or C-H bo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can be natural or synthe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Natural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compounds that make up living sys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ynthetic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man-made compou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6172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240" y="2666880"/>
            <a:ext cx="746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derstand how natural world wor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derstand how human systems interact with natural system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urately determine environmental probl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 and follow a sustainable relationship with natural wor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hotosynthe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ery inefficient (Only 1% of the energy from the sun is used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lorophyll – absorbs light to drive photosynthe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nts use glucose to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truct other molecu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uild their cell wa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ore ener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urce of ener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AG00433_"/>
          <p:cNvPicPr/>
          <p:nvPr/>
        </p:nvPicPr>
        <p:blipFill>
          <a:blip r:embed="rId1"/>
          <a:stretch/>
        </p:blipFill>
        <p:spPr>
          <a:xfrm>
            <a:off x="6705720" y="457200"/>
            <a:ext cx="1463400" cy="115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Object 6"/>
          <p:cNvGraphicFramePr/>
          <p:nvPr/>
        </p:nvGraphicFramePr>
        <p:xfrm>
          <a:off x="6095880" y="3906720"/>
          <a:ext cx="2819520" cy="25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3906720"/>
                    <a:ext cx="28195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rbon cyc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member the carbon cycle ga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hotosynthesis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ving fossil fuels (which took millions of years to form) to the atmosphere (in hundreds of years) is a major component of global warm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drocarbon fuels to C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trogen cyc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in reserve in the atmosphe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ving things must get N from ammonium (N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) or nitrate (N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 from the atmo must be fixe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o ammonium or nit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hizobium (bacteria living in roots of legumes) fig 3-1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dustri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ghtn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urning fossil fue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hosphorus cyc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gas phase, only solid and liqui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-made fertilizers contain organic phospha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cause P is a limiting factor in aquatic systems, it leads to eutroph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ain forest is very good at recycling P, except when we cut it down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80880" y="284040"/>
          <a:ext cx="8458200" cy="6353280"/>
        </p:xfrm>
        <a:graphic>
          <a:graphicData uri="http://schemas.openxmlformats.org/drawingml/2006/table">
            <a:tbl>
              <a:tblPr/>
              <a:tblGrid>
                <a:gridCol w="1235160"/>
                <a:gridCol w="1127160"/>
                <a:gridCol w="1676520"/>
                <a:gridCol w="1447560"/>
                <a:gridCol w="2971800"/>
              </a:tblGrid>
              <a:tr h="96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in nonliving reserv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in living reservoi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 nonliving reservoi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uman-induced probl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b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bohydrates (CH2O)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all organic molecu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yd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bonate (CO3-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carbonate (HCO3-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tho mineral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 warm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bon from fossil fuels underground are burned and released into the air as CO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tro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eins and other N- containing organic molecu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yd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moniu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H4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tr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3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trite NO2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utrophi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rtilizers contain human-made nitrates that end up in th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os-phorou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th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cks as PO4-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no gas pha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ospholipi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ydr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osph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4-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utrophi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rtilizers contain human-made phosphates that end up in th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tting down rainforest stops recycling of 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pulation and Succession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8600" y="2362320"/>
            <a:ext cx="8610480" cy="41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 6 most abundant elements in living thing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not in ord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* NCHO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 8 elements in the earths crust  (in ord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* O, Si, Al, Fe (iron), Ca, Na (sodium), P, M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silly apes in college study past midnigh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osphere II (remember ecocolumns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rpose: recreate conditions of Earth (Biosphere I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to understand our world be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space tra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acres in Arizona, 4000 speci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hum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problem: 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re absorbed by concre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ants and cockroaches took ove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bio2-arial"/>
          <p:cNvPicPr/>
          <p:nvPr/>
        </p:nvPicPr>
        <p:blipFill>
          <a:blip r:embed="rId1"/>
          <a:stretch/>
        </p:blipFill>
        <p:spPr>
          <a:xfrm>
            <a:off x="6019920" y="2057400"/>
            <a:ext cx="2895480" cy="2048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site7"/>
          <p:cNvPicPr/>
          <p:nvPr/>
        </p:nvPicPr>
        <p:blipFill>
          <a:blip r:embed="rId2"/>
          <a:stretch/>
        </p:blipFill>
        <p:spPr>
          <a:xfrm>
            <a:off x="5867280" y="4343400"/>
            <a:ext cx="30099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res in Ecosyste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intain balance of species and energy in ecosystems over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long ru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neficial b/c provide nutrients for soi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e avoid natural fires, but the problems like Crown Fires- (not natural) kill the whole tre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988 Yellowstone fires changed climax ecosystems of white bark pine trees to huckle berries. Grizzlies eat bot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4" descr="2000fires"/>
          <p:cNvPicPr/>
          <p:nvPr/>
        </p:nvPicPr>
        <p:blipFill>
          <a:blip r:embed="rId1"/>
          <a:stretch/>
        </p:blipFill>
        <p:spPr>
          <a:xfrm>
            <a:off x="2743200" y="4343400"/>
            <a:ext cx="3733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uccession - One species gradually replaced by another in an ecosy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ary – new ecosystem where there were no living things before. Cooled lava, receded glacier, mud sl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ary- ecosystem used to be there. Fire, humans clear an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quatic – lakes taken over by terrestrial eco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max ecosystem- in balance only changes if major inter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000_0044"/>
          <p:cNvPicPr/>
          <p:nvPr/>
        </p:nvPicPr>
        <p:blipFill>
          <a:blip r:embed="rId1"/>
          <a:stretch/>
        </p:blipFill>
        <p:spPr>
          <a:xfrm>
            <a:off x="5257800" y="1523880"/>
            <a:ext cx="33717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imary succes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4" descr="100_0514"/>
          <p:cNvPicPr/>
          <p:nvPr/>
        </p:nvPicPr>
        <p:blipFill>
          <a:blip r:embed="rId1"/>
          <a:stretch/>
        </p:blipFill>
        <p:spPr>
          <a:xfrm>
            <a:off x="5099040" y="3008160"/>
            <a:ext cx="3584520" cy="28576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1523880" y="160020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create new soil for plants to gr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plants to come in are called pioneer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h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b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aster Islan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Picture 3" descr="[IMAGE]"/>
          <p:cNvPicPr/>
          <p:nvPr/>
        </p:nvPicPr>
        <p:blipFill>
          <a:blip r:embed="rId1"/>
          <a:stretch/>
        </p:blipFill>
        <p:spPr>
          <a:xfrm>
            <a:off x="5838840" y="1905120"/>
            <a:ext cx="315288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609480" y="1905120"/>
            <a:ext cx="5410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ustainabil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 system/process can continue indefinitely without depleting resources u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no sacrifice to future generations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teward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ing for something that does not belong to y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ound Sc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scientific meth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in Top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ergy flow and the biomass pyramid figs 3-13 and 3-2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pulation dynamics fig 4-2, 4-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iotic potential vs environmental resistance fig 4-4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pulation equilibrium and balanced herbivory figs 4-5, 4-1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roduced species effects on ecosystems fig 4-6, 4-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2520" y="1138320"/>
            <a:ext cx="723924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volutionary Change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19320" y="259092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cabulary that you need to kn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D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Chromos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Ge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alle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 Dogma: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NA- bluepr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NA- carp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tein- house, w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Mut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tations are naturally random event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* Normal var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* Chemical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* UV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* Radiat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Genetic Trai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only passed down if an organism reproduce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y do species change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nvironmental resistance and biotic potent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ective pressure on mut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at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* creation of a new species based on reproductive isolat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eciation (Galapagos Finches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3" descr="Fig22x-3"/>
          <p:cNvPicPr/>
          <p:nvPr/>
        </p:nvPicPr>
        <p:blipFill>
          <a:blip r:embed="rId1"/>
          <a:stretch/>
        </p:blipFill>
        <p:spPr>
          <a:xfrm>
            <a:off x="947880" y="1447920"/>
            <a:ext cx="804384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ological Context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(space and time for evolution)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te tectonic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ological time scale (fig. 5-21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mbrian explo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ective bree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51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tificial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51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tural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457200" y="1828800"/>
            <a:ext cx="472428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population tre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graphic tran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structure dia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vs. developing count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4724280" y="1676520"/>
            <a:ext cx="4114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rtility r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ba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4 UN conference in Cairo- program of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838080" y="301680"/>
            <a:ext cx="784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Human Popula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6" descr="BD04964_"/>
          <p:cNvPicPr/>
          <p:nvPr/>
        </p:nvPicPr>
        <p:blipFill>
          <a:blip r:embed="rId1"/>
          <a:stretch/>
        </p:blipFill>
        <p:spPr>
          <a:xfrm>
            <a:off x="4054320" y="4343400"/>
            <a:ext cx="2346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-76320" y="22096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ude birth rate= number birth per 1000 individu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ude death rate= number death per 1000 individu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 rate = natural increase in population expressed as perc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years (If this number is negative, the population is shrinking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= birth – deat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other factors affect population growth in a certain area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2438280" y="685800"/>
            <a:ext cx="45435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opulation Growth Rates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34760" y="-71640"/>
            <a:ext cx="8637480" cy="15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Population growth rates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Picture 4" descr="california"/>
          <p:cNvPicPr/>
          <p:nvPr/>
        </p:nvPicPr>
        <p:blipFill>
          <a:blip r:embed="rId1"/>
          <a:stretch/>
        </p:blipFill>
        <p:spPr>
          <a:xfrm>
            <a:off x="3649680" y="1600200"/>
            <a:ext cx="1836720" cy="18018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crease popula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ecrease populatio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births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death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immigration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   emigration (exit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(birth - death)+ (immigration-emig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immigration = migration of individuals into a population from another area or count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emigration = migration of individuals from a population bound for another count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762120" y="92376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(birth - death)+ (immigration-emigr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3" descr="SO00513_"/>
          <p:cNvPicPr/>
          <p:nvPr/>
        </p:nvPicPr>
        <p:blipFill>
          <a:blip r:embed="rId1"/>
          <a:stretch/>
        </p:blipFill>
        <p:spPr>
          <a:xfrm>
            <a:off x="5029200" y="2057400"/>
            <a:ext cx="3753000" cy="29559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1222200" y="4695840"/>
            <a:ext cx="656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               D               I               E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=( 10/1000) – (5/1000) + (1/1000) – (10/1000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=(0.01-0.005) + (0.001 – 0.0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0.005 – 0.009 = -0.004 or –0.4% per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139400" y="1828800"/>
            <a:ext cx="662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population of 10,000 has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births (10 per 100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deaths (5 per 100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immigration (1 per 100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emigration (10 per 100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t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WordArt 6"/>
          <p:cNvSpPr txBox="1"/>
          <p:nvPr/>
        </p:nvSpPr>
        <p:spPr>
          <a:xfrm>
            <a:off x="2057400" y="0"/>
            <a:ext cx="54482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rowth Rate Example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. Human population growth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4876560"/>
            <a:ext cx="7696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6.3 billion people current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st 25 yrs population grew by 2 bill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jected that population will be 10 billion by 205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rease pop → increase need for resour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FG06_001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914400" y="38088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growth rate is 1% and the population size is 10,000, how many years will it take to get to a population of 40,000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tion doubl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WordArt 3"/>
          <p:cNvSpPr txBox="1"/>
          <p:nvPr/>
        </p:nvSpPr>
        <p:spPr>
          <a:xfrm rot="5400000">
            <a:off x="5695560" y="2800440"/>
            <a:ext cx="5562720" cy="133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Double Time Exampl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061640" y="5638680"/>
            <a:ext cx="63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40 years, the population will be 40,000 peop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YOUR WORK!!!!!!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437200" y="4648320"/>
            <a:ext cx="32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0 years)(2) =140 years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163600" y="403848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D.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,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239560" y="335268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.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,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510560" y="281952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70 years the population will be 20,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672200" y="222552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/rate =70/1% =70 years to dou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G06_016"/>
          <p:cNvPicPr/>
          <p:nvPr/>
        </p:nvPicPr>
        <p:blipFill>
          <a:blip r:embed="rId1"/>
          <a:stretch/>
        </p:blipFill>
        <p:spPr>
          <a:xfrm>
            <a:off x="1295280" y="1523880"/>
            <a:ext cx="6705720" cy="4470480"/>
          </a:xfrm>
          <a:prstGeom prst="rect">
            <a:avLst/>
          </a:prstGeom>
          <a:ln w="0">
            <a:noFill/>
          </a:ln>
        </p:spPr>
      </p:pic>
      <p:sp>
        <p:nvSpPr>
          <p:cNvPr id="209" name="WordArt 3"/>
          <p:cNvSpPr txBox="1"/>
          <p:nvPr/>
        </p:nvSpPr>
        <p:spPr>
          <a:xfrm>
            <a:off x="2438280" y="685800"/>
            <a:ext cx="4381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emographic Transition</a:t>
            </a:r>
            <a:endParaRPr b="0" lang="en-US" sz="18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600200" y="685800"/>
            <a:ext cx="7086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om Line= as countries develop, first their death rate drops and then their birth rate dr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the pha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I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medical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tion               (births still hig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II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birth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 (of wom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mortality rate of inf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child lab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ed Countr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ada, U.S., Australia, Western Europe (Denmark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ing Countr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tin America, China, Africa (Keny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/5 of the world’s pop. Lives in absolute poverty, illiterate, lack clean H2O and don’t have enough foo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80% of world’s pop. Lives in developing co. and grow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3" descr="j0335112"/>
          <p:cNvPicPr/>
          <p:nvPr/>
        </p:nvPicPr>
        <p:blipFill>
          <a:blip r:embed="rId1"/>
          <a:stretch/>
        </p:blipFill>
        <p:spPr>
          <a:xfrm>
            <a:off x="7029360" y="2666880"/>
            <a:ext cx="1962360" cy="1981440"/>
          </a:xfrm>
          <a:prstGeom prst="rect">
            <a:avLst/>
          </a:prstGeom>
          <a:ln w="0">
            <a:noFill/>
          </a:ln>
        </p:spPr>
      </p:pic>
      <p:sp>
        <p:nvSpPr>
          <p:cNvPr id="213" name="WordArt 4"/>
          <p:cNvSpPr txBox="1"/>
          <p:nvPr/>
        </p:nvSpPr>
        <p:spPr>
          <a:xfrm>
            <a:off x="1371600" y="5335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veloped vs. Developing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7617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otal fertility= avg. # of children born per wom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developed countries = 2.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developing countries = 2.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rtility of 2.0= replacement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der 2.0 = shrinking popul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ver 2.0 = growing po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developed countries = 2.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developing countries = 2.6(or higher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2438280" y="457200"/>
            <a:ext cx="41911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ertility R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6" name="Picture 4" descr="baby"/>
          <p:cNvPicPr/>
          <p:nvPr/>
        </p:nvPicPr>
        <p:blipFill>
          <a:blip r:embed="rId1"/>
          <a:stretch/>
        </p:blipFill>
        <p:spPr>
          <a:xfrm>
            <a:off x="6781680" y="2657520"/>
            <a:ext cx="1809720" cy="2371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agency of the United N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s $$ from developed co. and loans $$ to developing c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this backfires by increasing deb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sees all types of issues, not just environmental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. electricity, roads, new modern techn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WordArt 3"/>
          <p:cNvSpPr txBox="1"/>
          <p:nvPr/>
        </p:nvSpPr>
        <p:spPr>
          <a:xfrm>
            <a:off x="2743200" y="380880"/>
            <a:ext cx="35812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orld Bank</a:t>
            </a:r>
            <a:endParaRPr b="0" lang="en-US" sz="1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9" name="Picture 4" descr="bank"/>
          <p:cNvPicPr/>
          <p:nvPr/>
        </p:nvPicPr>
        <p:blipFill>
          <a:blip r:embed="rId1"/>
          <a:stretch/>
        </p:blipFill>
        <p:spPr>
          <a:xfrm>
            <a:off x="2895480" y="4724280"/>
            <a:ext cx="32958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oil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1" name="Picture 3" descr="FG08_004"/>
          <p:cNvPicPr/>
          <p:nvPr/>
        </p:nvPicPr>
        <p:blipFill>
          <a:blip r:embed="rId1"/>
          <a:stretch/>
        </p:blipFill>
        <p:spPr>
          <a:xfrm>
            <a:off x="1752480" y="1676520"/>
            <a:ext cx="739152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5053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nd 2.0-.02 m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lt .02-.002 m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ay.002mm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≥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some microscop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4" descr="textleaching"/>
          <p:cNvPicPr/>
          <p:nvPr/>
        </p:nvPicPr>
        <p:blipFill>
          <a:blip r:embed="rId1"/>
          <a:stretch/>
        </p:blipFill>
        <p:spPr>
          <a:xfrm>
            <a:off x="4552920" y="2103480"/>
            <a:ext cx="41306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8078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LOAM: </a:t>
            </a:r>
            <a:br>
              <a:rPr sz="32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40%sand 40% silt 20% clay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oam is theoretically the ideal soil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6" name="Picture 3" descr="sc-scl-sl"/>
          <p:cNvPicPr/>
          <p:nvPr/>
        </p:nvPicPr>
        <p:blipFill>
          <a:blip r:embed="rId1"/>
          <a:stretch/>
        </p:blipFill>
        <p:spPr>
          <a:xfrm>
            <a:off x="2506680" y="2454120"/>
            <a:ext cx="419904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es of Soi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20574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ollisols- very fertile, dark, found in temperate grasslands, best agricultural soil, Deep A horiz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85800" y="3124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Oxisols- soil of tropical and subtropical rainforest layer of iron and Al oxides in B horizon, little O horiz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9480" y="4038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Alfisols- weathered forest soil, not deep, but developed OAE+B typical of most temperate forest biome. Need fertilizer for agricul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85800" y="5410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dsols- dry lands + desert, lack of vegetation, lack of rai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nstructured vertically, irrigation leads to salinization b/c of high evapor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. Soil degrad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mand for food destroys the soi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o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nerals in soil are deplet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liniz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creased use of pesticid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veruse of fresh w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43000" y="6095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gure 9-1 Earth’s water suppl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3" descr="FG09_001"/>
          <p:cNvPicPr/>
          <p:nvPr/>
        </p:nvPicPr>
        <p:blipFill>
          <a:blip r:embed="rId1"/>
          <a:stretch/>
        </p:blipFill>
        <p:spPr>
          <a:xfrm>
            <a:off x="914400" y="914400"/>
            <a:ext cx="7848720" cy="52322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219320" y="304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 Fac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rimary use for fresh water in U.S. is for agricultur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our homes, we use the most fresh water to wash, clean and flus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ypical person in an industrialized nation uses 700-1000 gallons per week!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uman effects on the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ydrologic Cycle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8" name="Picture 3" descr="FG09_010"/>
          <p:cNvPicPr/>
          <p:nvPr/>
        </p:nvPicPr>
        <p:blipFill>
          <a:blip r:embed="rId1"/>
          <a:stretch/>
        </p:blipFill>
        <p:spPr>
          <a:xfrm>
            <a:off x="914400" y="144792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064160" y="6035760"/>
            <a:ext cx="41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9-3 The Hydrologic cy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gure 9-5a Global air circul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3" descr="FG09_05A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55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1138320"/>
            <a:ext cx="723924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ain shadow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681120" y="-1743120"/>
            <a:ext cx="7783560" cy="5875560"/>
            <a:chOff x="681120" y="-1743120"/>
            <a:chExt cx="7783560" cy="5875560"/>
          </a:xfrm>
        </p:grpSpPr>
        <p:sp>
          <p:nvSpPr>
            <p:cNvPr id="245" name="Rectangle 5"/>
            <p:cNvSpPr/>
            <p:nvPr/>
          </p:nvSpPr>
          <p:spPr>
            <a:xfrm>
              <a:off x="681120" y="-1743120"/>
              <a:ext cx="7783560" cy="58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6"/>
            <p:cNvSpPr/>
            <p:nvPr/>
          </p:nvSpPr>
          <p:spPr>
            <a:xfrm>
              <a:off x="681120" y="-1743120"/>
              <a:ext cx="778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7" name="AutoShape 7"/>
          <p:cNvSpPr/>
          <p:nvPr/>
        </p:nvSpPr>
        <p:spPr>
          <a:xfrm>
            <a:off x="1150920" y="40291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681120" y="-1743120"/>
            <a:ext cx="7783560" cy="5875560"/>
            <a:chOff x="681120" y="-1743120"/>
            <a:chExt cx="7783560" cy="5875560"/>
          </a:xfrm>
        </p:grpSpPr>
        <p:sp>
          <p:nvSpPr>
            <p:cNvPr id="249" name="Rectangle 9"/>
            <p:cNvSpPr/>
            <p:nvPr/>
          </p:nvSpPr>
          <p:spPr>
            <a:xfrm>
              <a:off x="681120" y="-1743120"/>
              <a:ext cx="7783560" cy="58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10"/>
            <p:cNvSpPr/>
            <p:nvPr/>
          </p:nvSpPr>
          <p:spPr>
            <a:xfrm>
              <a:off x="681120" y="-1743120"/>
              <a:ext cx="778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1" name="AutoShape 11"/>
          <p:cNvSpPr/>
          <p:nvPr/>
        </p:nvSpPr>
        <p:spPr>
          <a:xfrm>
            <a:off x="1150920" y="40291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12" descr="FG09_006"/>
          <p:cNvPicPr/>
          <p:nvPr/>
        </p:nvPicPr>
        <p:blipFill>
          <a:blip r:embed="rId1"/>
          <a:stretch/>
        </p:blipFill>
        <p:spPr>
          <a:xfrm>
            <a:off x="609480" y="78732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3"/>
          <p:cNvSpPr/>
          <p:nvPr/>
        </p:nvSpPr>
        <p:spPr>
          <a:xfrm>
            <a:off x="1965600" y="613728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9-6 Rain shad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e Ogallala Aquifer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5" name="Picture 3" descr="FG09_016"/>
          <p:cNvPicPr/>
          <p:nvPr/>
        </p:nvPicPr>
        <p:blipFill>
          <a:blip r:embed="rId1"/>
          <a:srcRect l="0" t="0" r="1200" b="1800"/>
          <a:stretch/>
        </p:blipFill>
        <p:spPr>
          <a:xfrm>
            <a:off x="990720" y="1371600"/>
            <a:ext cx="6775200" cy="44895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899720" y="5791320"/>
            <a:ext cx="48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9-16 Exploitation of an aqui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Mono Lak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31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cellent example of human interference with the water supp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water in the lake was diverted from the lake to the city of Los Angeles. It became a salt be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↑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Salt concentration due to evapo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Three Gorges Dam in Chi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China needs to meet the growing demand for energ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Huge environmental impa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Hundreds of thousands of people will be displaced (not to mention the ecosystems which will be flooded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empus Sans ITC"/>
              </a:rPr>
              <a:t>Genetically altered food, Irish Potato Famin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3657240"/>
            <a:ext cx="3124440" cy="2590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e9dfc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empus Sans ITC"/>
              </a:rPr>
              <a:t>Soi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empus Sans ITC"/>
              </a:rPr>
              <a:t>Eros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empus Sans ITC"/>
              </a:rPr>
              <a:t>Loss of fertilit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empus Sans ITC"/>
              </a:rPr>
              <a:t>Salin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empus Sans ITC"/>
              </a:rPr>
              <a:t>Waterlogg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empus Sans ITC"/>
              </a:rPr>
              <a:t>Desertific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267080" y="3200400"/>
            <a:ext cx="4572000" cy="33688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d8f7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Aquifer deple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Increased runoff and flooding from land cleared to grow cro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Fish kills from pesticide runof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Surface and groundwater pollution from pesticides and fertiliz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ver fertilization of lakes &gt;&gt; eutrophi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371600" y="1538280"/>
            <a:ext cx="5410080" cy="1282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af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Greenhouse gas emissions from fossil fu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ther air pollutants from fossil fu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Pollutions from pesticide spr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066680" y="228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Times New Roman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empus Sans ITC"/>
              </a:rPr>
              <a:t>Major Environmental Effects of Food Production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4343400" cy="3581280"/>
          </a:xfrm>
          <a:prstGeom prst="rect">
            <a:avLst/>
          </a:prstGeom>
          <a:gradFill rotWithShape="0">
            <a:gsLst>
              <a:gs pos="0">
                <a:srgbClr val="f0f8f8"/>
              </a:gs>
              <a:gs pos="100000">
                <a:srgbClr val="00808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empus Sans ITC"/>
              </a:rPr>
              <a:t>Biodiversity Lo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empus Sans ITC"/>
              </a:rPr>
              <a:t>Loss and degradation of habitat from clearing grasslands and forests and draining wetland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empus Sans ITC"/>
              </a:rPr>
              <a:t>Fish kills from pesticide runof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empus Sans ITC"/>
              </a:rPr>
              <a:t>Killing of wild predators to protect live stock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empus Sans ITC"/>
              </a:rPr>
              <a:t>Loss of genetic diversity from replacing thousands of wild crop strains with a few monoculture strai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5257800" y="2057400"/>
            <a:ext cx="3505320" cy="3898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Human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Nitrates in drinking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Pesticide residues in drinking water, food, and 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Contamination of drinking and swimming water with disease organisms from livestock was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Green Revolu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eliminate hunger by improving crop performa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ment to increase yields by us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w crop cultiva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rrig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ertilize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sticid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chanizatio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d not eliminate fam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pulation still increas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rease cost of produc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 increased negative environmental impa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dn’t work for everyo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. Global Atmospheric Chang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lobal Warm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produced from fossil fuel burning acts like a blanket around the eart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ants take 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out of the atmosphere through photosynthe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6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=&gt; 6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zone deple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hemicals released from the surface of the earth destroy our ozone shiel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tratospheric ozone, no protection from the UV rays of the sun.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tection of Biodiversity and Ecosys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0" name="Picture 4" descr="AN02165_"/>
          <p:cNvPicPr/>
          <p:nvPr/>
        </p:nvPicPr>
        <p:blipFill>
          <a:blip r:embed="rId1"/>
          <a:stretch/>
        </p:blipFill>
        <p:spPr>
          <a:xfrm>
            <a:off x="6477120" y="604800"/>
            <a:ext cx="1941480" cy="9190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1143000" y="2666880"/>
            <a:ext cx="7156440" cy="34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hreaten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if the trend continues, the species will be endanger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Endanger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if the trend continues, the species will go extin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rmaceuticals and native plant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pproximately 25% of  drugs used as medicines come from natural plant sourc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Exxon Valdez Oil Spill (1989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300,000 birds died as a result of that particular oil spill. The area, Prince William Sound, is still recove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now Specific Details about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se Endangered animals (and check Barron’s examples)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ld Turkey – a success s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ooping Crane- Eggs raised by sandhill cranes led to problems, but the efforts proved successful overal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egrine Falcon- DD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otted Owl- deforest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sh living in George’s Bank (off New England)-The marketable fish were over fished and other species took over. An example of poor management of fisheri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ndocrine Disrup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18960" y="1752480"/>
            <a:ext cx="6629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fere with normal hormone a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interfere with develop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e often connected to cancer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interfere with sexual activity (alligator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e found in plastics and some pesticid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190760" y="167652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al-several (400) hundred yea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j0214914"/>
          <p:cNvPicPr/>
          <p:nvPr/>
        </p:nvPicPr>
        <p:blipFill>
          <a:blip r:embed="rId1"/>
          <a:stretch/>
        </p:blipFill>
        <p:spPr>
          <a:xfrm>
            <a:off x="533520" y="2446200"/>
            <a:ext cx="3479760" cy="30402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4191120" y="48769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l- about a decade until supplies pe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191120" y="3352680"/>
            <a:ext cx="457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Gas – at least a 50 year supply in the United St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295280" y="8380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ssil Fuels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Exxon Valdez, Drilling in ANW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mportant energy fac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rief history of energ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33cccc"/>
                </a:solidFill>
                <a:latin typeface="Verdana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700-1800 Fire woo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33cccc"/>
                </a:solidFill>
                <a:latin typeface="Verdana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900-1920 Co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cc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33cccc"/>
                </a:solidFill>
                <a:latin typeface="Verdana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950- now crude oi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ction of crude oil” = with drawing it from reserv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C (pg 319) organization of petroleum exporting countries (Mid-east countries mainly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re Energy Fac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get 50% of our crude oil from foreign source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aska pipeline built to help increase production of domestic crude oi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s of co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at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not coal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Lignit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brown coal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Bituminous coal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soft coal with high sulfur)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thracit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hard coal with low sulfur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il: The Most Important Fossil Fuel in the American Econom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vironmental Consequ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ction: local ecosystems damage possi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port: oil spills cause local and regional ecosystem dama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e: photochemical smog, particulates, acid precipitation, carbon dioxid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4" descr="BD10421_"/>
          <p:cNvPicPr/>
          <p:nvPr/>
        </p:nvPicPr>
        <p:blipFill>
          <a:blip r:embed="rId1"/>
          <a:stretch/>
        </p:blipFill>
        <p:spPr>
          <a:xfrm>
            <a:off x="6324480" y="4495680"/>
            <a:ext cx="2149560" cy="1984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BD06976_"/>
          <p:cNvPicPr/>
          <p:nvPr/>
        </p:nvPicPr>
        <p:blipFill>
          <a:blip r:embed="rId2"/>
          <a:stretch/>
        </p:blipFill>
        <p:spPr>
          <a:xfrm>
            <a:off x="5867280" y="1752480"/>
            <a:ext cx="30592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vironmental Consequ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ction: ecosystem damage, reclamation difficult, acid mine runoff, mine tailings, erosion, black lung, rad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port: energy intensive because of weight and number of train cars need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e: fossil fuel with largest source of carbon dioxide and greatest quantity of contaminants, large volume of waste, acid precipit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j0286871"/>
          <p:cNvPicPr/>
          <p:nvPr/>
        </p:nvPicPr>
        <p:blipFill>
          <a:blip r:embed="rId1"/>
          <a:stretch/>
        </p:blipFill>
        <p:spPr>
          <a:xfrm>
            <a:off x="6324480" y="228600"/>
            <a:ext cx="1924200" cy="19810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atural G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5334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vironmental Consequences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ction: local ecosystem damage possible if oil or coal is part of the depos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port: can be explosiv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e: produces the least air pollutants of all the fossil fue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4" descr="j0233393"/>
          <p:cNvPicPr/>
          <p:nvPr/>
        </p:nvPicPr>
        <p:blipFill>
          <a:blip r:embed="rId1"/>
          <a:stretch/>
        </p:blipFill>
        <p:spPr>
          <a:xfrm>
            <a:off x="5486400" y="2602080"/>
            <a:ext cx="3149640" cy="34938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685800" y="1111320"/>
            <a:ext cx="815328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y a transition fuel between fossil fu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lternative energy sour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lectric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8" name="Picture 3" descr="IN00233_"/>
          <p:cNvPicPr/>
          <p:nvPr/>
        </p:nvPicPr>
        <p:blipFill>
          <a:blip r:embed="rId1"/>
          <a:stretch/>
        </p:blipFill>
        <p:spPr>
          <a:xfrm>
            <a:off x="6373800" y="152280"/>
            <a:ext cx="2541600" cy="18874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457200" y="1981080"/>
            <a:ext cx="8458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is a secondary energy source because it relies on another energy source to create the electric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production of electricity-boil water to produce steam to turn turbines to generate electron flow through a wi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primary sources for electrical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% from nucl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% from co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, geothermal, </a:t>
            </a:r>
            <a:r>
              <a:rPr b="0" lang="en-US" sz="2400" spc="-1" strike="noStrike">
                <a:solidFill>
                  <a:srgbClr val="99cccc"/>
                </a:solidFill>
                <a:latin typeface="Times New Roman"/>
              </a:rPr>
              <a:t>solar, wind, hydroelectric (no boiling water required for these sourc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lectricity a clean energy sour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. Loss of Biodivers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abitat destruction leads to a loss of many species starting with the pla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ct # of species lost is unknown because not all species are identifi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rong ecosystems need biodivers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959-1980   25% of all prescription drugs from natural resour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ld species keep domestic species vigoro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62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s: No 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emissions, no particulate emiss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562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s: Radiation can lead to damaged DNA, costs, radioactive waste, thermal poll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624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ally- the splitting of uranium’s nucleus gives off heat that can be used to boil water and turn a turbo generator to create electric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624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turally occurring Uranium is mine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15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uclear Pow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uclear important fac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usion- the combination of 2 atoms to form a larger at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ssion- splitting an at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uclear Regulatory Commission is the US governmental Agency that regulates nuclear power plant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dioisotope= unstable radioactive isotop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raniu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ranium 235 has 92 protons and 143 neutrons. It is radioactive and used as fuel in nuclear reactor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en U235 is hit by a neutron, it is split (fission) into two smaller elements such as Kr and Ba plus three neutrons which sustain the chain reactio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st (99.3%) of the naturally occurring uranium is U238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a nuclear reactor, this must be purified to 4% U235 and 96% U238. (very expensiv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FG14_008"/>
          <p:cNvPicPr/>
          <p:nvPr/>
        </p:nvPicPr>
        <p:blipFill>
          <a:blip r:embed="rId1"/>
          <a:stretch/>
        </p:blipFill>
        <p:spPr>
          <a:xfrm>
            <a:off x="4038480" y="2286000"/>
            <a:ext cx="5334120" cy="35560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. Water moderator: slows down neutron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. Neutron-absorbing material- control ro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. Fuel Rods- approximately one third replaced each ye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. Heat transfer syste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 Cooling syste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. Redundant safety system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. How does a Power Plant Operate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yucca"/>
          <p:cNvPicPr/>
          <p:nvPr/>
        </p:nvPicPr>
        <p:blipFill>
          <a:blip r:embed="rId1"/>
          <a:stretch/>
        </p:blipFill>
        <p:spPr>
          <a:xfrm>
            <a:off x="3809880" y="1600200"/>
            <a:ext cx="5257800" cy="46404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aste Dispos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3657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l fuel rods are still in cooling ponds at commercial nuclear facil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posed site for disposal - Yucca Mountain in SE Neva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cerns: Geological active area, Intrusion of water table, distances for wastes travel, radioactive decay and half-liv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powerplant"/>
          <p:cNvPicPr/>
          <p:nvPr/>
        </p:nvPicPr>
        <p:blipFill>
          <a:blip r:embed="rId1"/>
          <a:stretch/>
        </p:blipFill>
        <p:spPr>
          <a:xfrm>
            <a:off x="5486400" y="228600"/>
            <a:ext cx="3394080" cy="253692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cid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8120" y="1752480"/>
            <a:ext cx="7313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ernobyl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/26/86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krain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lete meltdow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ree Mile Island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/28/79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nnsylvania (Harrisburg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rtial meltdown, no one known to be hur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enewable Energ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7" name="Picture 3" descr="IN00319_"/>
          <p:cNvPicPr/>
          <p:nvPr/>
        </p:nvPicPr>
        <p:blipFill>
          <a:blip r:embed="rId1"/>
          <a:stretch/>
        </p:blipFill>
        <p:spPr>
          <a:xfrm>
            <a:off x="3200400" y="2705040"/>
            <a:ext cx="3962520" cy="1486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IN01108_"/>
          <p:cNvPicPr/>
          <p:nvPr/>
        </p:nvPicPr>
        <p:blipFill>
          <a:blip r:embed="rId2"/>
          <a:stretch/>
        </p:blipFill>
        <p:spPr>
          <a:xfrm>
            <a:off x="609480" y="3581280"/>
            <a:ext cx="2216160" cy="28828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5"/>
          <p:cNvSpPr/>
          <p:nvPr/>
        </p:nvSpPr>
        <p:spPr>
          <a:xfrm>
            <a:off x="1066680" y="1371600"/>
            <a:ext cx="7162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nlight, wind, falling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, geotherm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fossil fuels, not nucl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6" descr="NA00842_"/>
          <p:cNvPicPr/>
          <p:nvPr/>
        </p:nvPicPr>
        <p:blipFill>
          <a:blip r:embed="rId3"/>
          <a:stretch/>
        </p:blipFill>
        <p:spPr>
          <a:xfrm>
            <a:off x="6705720" y="4419720"/>
            <a:ext cx="223812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direct Solar pow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es it affect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ind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dropower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ewood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dro carbon fuel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uclear and Geothermal are not indirect sola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olar Energ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313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Passive sol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rge south-facing windows, heavy drapes to trap heat at night, interior bricks to trap he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ade windows in summ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ven though back up systems are required, and solar heating may only lessen the need for heating oil a few %, it will help us adapt to diminishing oil suppli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Active sol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hotovoltaic (PV) panels can be used to convert the energy from the sun into electricit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ectrons from the silicon in the PV panel are “pushed” through a wire by photons from the sun creating an electric curren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Times New Roman"/>
              </a:rPr>
              <a:t>Risks and Pests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orneo (DDT), MTB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1066680" y="1676520"/>
            <a:ext cx="7086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zard - Anything that cau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jury, disease, or death to hum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mage to prop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truction of the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ultural hazar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a risk that a person chooses to engage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s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ability of suffering (1, 2, or 3) as a result of a haz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cep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people think the risks 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7" descr="MCSY00732_0000[1]"/>
          <p:cNvPicPr/>
          <p:nvPr/>
        </p:nvPicPr>
        <p:blipFill>
          <a:blip r:embed="rId1"/>
          <a:stretch/>
        </p:blipFill>
        <p:spPr>
          <a:xfrm>
            <a:off x="6781680" y="4952880"/>
            <a:ext cx="18288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Photo: Rachel Carson"/>
          <p:cNvPicPr/>
          <p:nvPr/>
        </p:nvPicPr>
        <p:blipFill>
          <a:blip r:embed="rId1"/>
          <a:stretch/>
        </p:blipFill>
        <p:spPr>
          <a:xfrm>
            <a:off x="6781680" y="152280"/>
            <a:ext cx="2073240" cy="3048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Book Cover Image: Silent Spring"/>
          <p:cNvPicPr/>
          <p:nvPr/>
        </p:nvPicPr>
        <p:blipFill>
          <a:blip r:embed="rId2"/>
          <a:stretch/>
        </p:blipFill>
        <p:spPr>
          <a:xfrm>
            <a:off x="457200" y="380880"/>
            <a:ext cx="180036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Birdnest RachelCarson.org Logo"/>
          <p:cNvPicPr/>
          <p:nvPr/>
        </p:nvPicPr>
        <p:blipFill>
          <a:blip r:embed="rId3"/>
          <a:stretch/>
        </p:blipFill>
        <p:spPr>
          <a:xfrm>
            <a:off x="3505320" y="700200"/>
            <a:ext cx="2133360" cy="2119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57200" y="3124080"/>
            <a:ext cx="845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hel Carson was a scientist who wro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lent Sp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196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ddressed the growing use of pesticides (DDT) and their unpredicted effects on song bir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users of pesticides did not know that the poisons used to kill insects would accumulate in other living things and kill them too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ACCU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igarette Smok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ading cause of cancer in U.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cause cancer, lung disease, a bigger risk of death in addition with other types of air pollu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est health risk in U.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4" descr="gogh"/>
          <p:cNvPicPr/>
          <p:nvPr/>
        </p:nvPicPr>
        <p:blipFill>
          <a:blip r:embed="rId1"/>
          <a:stretch/>
        </p:blipFill>
        <p:spPr>
          <a:xfrm>
            <a:off x="6392880" y="3276720"/>
            <a:ext cx="2370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Times New Roman"/>
              </a:rPr>
              <a:t>Insecticides/Pesticides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Integrated pest management includes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adjusting environmental condition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chemical pesticid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disease resistant varieti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crop ro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biological control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Insecticides kills plants, mammals, fish, bird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A broad spectrum pesticide is effective towards many types of pest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28240" y="3123720"/>
            <a:ext cx="4876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DDT accumulates in fat body tissues of animal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DDT was not used for handling weed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DDT is, persistent, synthetic organic compound and a subject to biomagnifications in food chai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4" descr="orionddt"/>
          <p:cNvPicPr/>
          <p:nvPr/>
        </p:nvPicPr>
        <p:blipFill>
          <a:blip r:embed="rId1"/>
          <a:stretch/>
        </p:blipFill>
        <p:spPr>
          <a:xfrm>
            <a:off x="1546200" y="76320"/>
            <a:ext cx="2187720" cy="2971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DDT-Household-Pests-USDA-Mar47a"/>
          <p:cNvPicPr/>
          <p:nvPr/>
        </p:nvPicPr>
        <p:blipFill>
          <a:blip r:embed="rId2"/>
          <a:stretch/>
        </p:blipFill>
        <p:spPr>
          <a:xfrm>
            <a:off x="5119560" y="915840"/>
            <a:ext cx="356724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Times New Roman"/>
              </a:rPr>
              <a:t>Diseases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Lyme disease can be processed to humans through a bite from an infected tick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Mosquitoes causes Malaria, the vector for Plasmodiu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protozoan of the genus Plasmodium is the causative agent of mal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4" descr="denuge-mosquito"/>
          <p:cNvPicPr/>
          <p:nvPr/>
        </p:nvPicPr>
        <p:blipFill>
          <a:blip r:embed="rId1"/>
          <a:stretch/>
        </p:blipFill>
        <p:spPr>
          <a:xfrm>
            <a:off x="5562720" y="4340160"/>
            <a:ext cx="1995480" cy="1832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tick"/>
          <p:cNvPicPr/>
          <p:nvPr/>
        </p:nvPicPr>
        <p:blipFill>
          <a:blip r:embed="rId2"/>
          <a:stretch/>
        </p:blipFill>
        <p:spPr>
          <a:xfrm>
            <a:off x="6629400" y="1828800"/>
            <a:ext cx="1523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dirty_cu"/>
          <p:cNvPicPr/>
          <p:nvPr/>
        </p:nvPicPr>
        <p:blipFill>
          <a:blip r:embed="rId1"/>
          <a:stretch/>
        </p:blipFill>
        <p:spPr>
          <a:xfrm>
            <a:off x="168120" y="46080"/>
            <a:ext cx="3870360" cy="257976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eases cont’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421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Lack of access to safe drinking water is a major cause of disease transmission in developing countries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Epidemiology is the study of the presence, distribution and control of a diseases in a populat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orbidit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the incidence of disease in a populat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ortalit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the incidence of death in a populat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ater Pollu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wage treatment is a common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1970’s many cities were still dumping raw sewage into water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1972, the Clean water act provided funding for upgrading sewage treatment pl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water ways are the much be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°, 2° use preliminary but no 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for sewage contamination in drinking H2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ecal Coliform t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wage Trea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789120" y="1600200"/>
            <a:ext cx="637380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w sewage (99% H2O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eliminary Treatment- allow grit to sett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° separating Raw Sludge from H2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2° AKA Biological Treatment- bacteria feeds on the organic materi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Trickling filters contain bacteria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  remove raw sludge from the H2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w Slud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ain heavy met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it does it needs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° treatment, to remove the toxic chemic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6" descr="NA01606_"/>
          <p:cNvPicPr/>
          <p:nvPr/>
        </p:nvPicPr>
        <p:blipFill>
          <a:blip r:embed="rId1"/>
          <a:stretch/>
        </p:blipFill>
        <p:spPr>
          <a:xfrm>
            <a:off x="6553080" y="2666880"/>
            <a:ext cx="236232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ome Septic System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 not use Chlorin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 use settling tank to settle organic soli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ts waste water percolate into the soil bacterial decompos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6" descr="FG18_016"/>
          <p:cNvPicPr/>
          <p:nvPr/>
        </p:nvPicPr>
        <p:blipFill>
          <a:blip r:embed="rId1"/>
          <a:stretch/>
        </p:blipFill>
        <p:spPr>
          <a:xfrm>
            <a:off x="4800600" y="393696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unicipal Solid Was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360" y="1827000"/>
            <a:ext cx="83790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10,000,000 tons of municipal solid waste (MSW) are disposed of annually in the United Stat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of that waste is pap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y-five percent of MSW is disposed of in landfi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7% of MSW is combusted, mostly in waste-to-energy (WTE) combustion facilities. What are the advantages and disadvantages of WTE combus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est solution to solid waste problems is to reduce waste at its sourc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than 75% of MSW is recyclable. What role is recycling playing in waste management, and how is recycling best promot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ch more can be done to move MSW management in a more sustainable direction. What are some recommendations to improve MSW manage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azardous Was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91440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alogenated hydrocarb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457200" y="228600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ic compounds with a halogen (bromine, iodine, ect.) replacing a hydro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d as pesticid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d to make plas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istant to biodegra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Picture 6" descr="kuva3"/>
          <p:cNvPicPr/>
          <p:nvPr/>
        </p:nvPicPr>
        <p:blipFill>
          <a:blip r:embed="rId1"/>
          <a:stretch/>
        </p:blipFill>
        <p:spPr>
          <a:xfrm>
            <a:off x="6296040" y="3200400"/>
            <a:ext cx="2543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re Cool Environmentalis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827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ohn Muir – Sierra Clu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sel Adams – Photography (Yosemit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do Leopold –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Sand County Almana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nry David Thoreau –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Wald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arrett Hardin –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Tragedy of the Comm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7" descr=""/>
          <p:cNvPicPr/>
          <p:nvPr/>
        </p:nvPicPr>
        <p:blipFill>
          <a:blip r:embed="rId1"/>
          <a:stretch/>
        </p:blipFill>
        <p:spPr>
          <a:xfrm>
            <a:off x="5715000" y="4343400"/>
            <a:ext cx="2666880" cy="21589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4"/>
          <p:cNvSpPr/>
          <p:nvPr/>
        </p:nvSpPr>
        <p:spPr>
          <a:xfrm>
            <a:off x="9144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lorinated hydrocarb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457200" y="225108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Chlorinated hydrocarb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 synthetic organic compounds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Dioxi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inly caused by burning PVC pipe (medical wast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nked to cancer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so an endocrine disrupto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1066680" y="22860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ove Canal, N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4520" y="1828800"/>
            <a:ext cx="8148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government allowed housing to be build over the toxic waste dump and people got si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blem first discovered in 197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rst national emergency in the US because of toxic was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d to the superfund legislatio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Superfund sit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$ comes from taxes on chemical industr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0% of the $ spent on  legal cos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6" descr="image_1"/>
          <p:cNvPicPr/>
          <p:nvPr/>
        </p:nvPicPr>
        <p:blipFill>
          <a:blip r:embed="rId1"/>
          <a:stretch/>
        </p:blipFill>
        <p:spPr>
          <a:xfrm>
            <a:off x="5562720" y="5029200"/>
            <a:ext cx="28191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ayers of the Atmosphe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85800" y="2743200"/>
            <a:ext cx="3962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oposphe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--------Tropopau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ratosph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-------- Stratopau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sosphe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-------- Mesopau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mosphe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6" descr="atmosphe"/>
          <p:cNvPicPr/>
          <p:nvPr/>
        </p:nvPicPr>
        <p:blipFill>
          <a:blip r:embed="rId1"/>
          <a:stretch/>
        </p:blipFill>
        <p:spPr>
          <a:xfrm>
            <a:off x="4343400" y="2286000"/>
            <a:ext cx="45720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omposition of the tropospher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2057400" y="1646280"/>
            <a:ext cx="52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8%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2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vapor (.01%-4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on gas (1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0.04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 g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lobal warming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762120" y="3124080"/>
            <a:ext cx="8229600" cy="3048120"/>
          </a:xfrm>
          <a:prstGeom prst="rect">
            <a:avLst/>
          </a:prstGeom>
          <a:gradFill rotWithShape="0">
            <a:gsLst>
              <a:gs pos="0">
                <a:srgbClr val="cc0c07">
                  <a:alpha val="34117"/>
                </a:srgbClr>
              </a:gs>
              <a:gs pos="100000">
                <a:srgbClr val="f5cecd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lobal warming occurs when humans contribute too much of these greenhouse gases leading to a small (1-3 degree C) but significant rise in the global average temperatur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ogy – Car on a sunny d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1219320" y="1370160"/>
            <a:ext cx="7543800" cy="1373760"/>
          </a:xfrm>
          <a:prstGeom prst="rect">
            <a:avLst/>
          </a:prstGeom>
          <a:solidFill>
            <a:srgbClr val="b1e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nhouse effect is natural and important to deep the earth warm enough for life to ex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3276720" y="15228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zone (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609480" y="3276720"/>
            <a:ext cx="8077320" cy="30477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ratospheric ozone is GOO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t shields us from the harmful UVB rays of the su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zone depletion is the thinning of the stratospheric ozone shield (mostly over the South Pole, Australia story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alogy – Stratospheric 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is like sunscreen for the earth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1219320" y="1208160"/>
            <a:ext cx="7391160" cy="13737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8f1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pospheric ozone is B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breath it, it causes lung d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lso a greenhouse g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Ravie"/>
              </a:rPr>
              <a:t>Air pollu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ensive: health care costs, human li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cute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Chronic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Carcinogenic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mages buildings, bridges, statues, boo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mage to Pla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Agriculture – crops loss ~$5 billion/ye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Fore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Picture 4" descr="starr_020813_0004_tibouchina_urvilleana"/>
          <p:cNvPicPr/>
          <p:nvPr/>
        </p:nvPicPr>
        <p:blipFill>
          <a:blip r:embed="rId1"/>
          <a:stretch/>
        </p:blipFill>
        <p:spPr>
          <a:xfrm>
            <a:off x="2819520" y="4327560"/>
            <a:ext cx="35049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Ravie"/>
              </a:rPr>
              <a:t>Acids and Bas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3000" y="1898280"/>
            <a:ext cx="717408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H-log of hydrogen ions in a solution. Therefore each number higher on the pH scale is 10X more bas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ic- OH- (hydroxyl ions) over 7 on the pH sca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idic-H+ ions under 7 on the pH sca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utral- pure water  is 7 on the pH sca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rmal rain is slightly acidic-pH 6.4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id rain is defined as less than a pH of 5.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Ravie"/>
              </a:rPr>
              <a:t>Indoor Air Pollutant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. Types: benzene, formaldehyde, radon, cigarette smok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. Sources: off gassing from furniture, rugs and building materials, dry cleaning, cleaning fluids, disinfectants, pesticides, hea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. Buildings with too many indoor air pollutants are called “sick buildings” because more than 20% of the people are sick due to occupying the build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5" descr="Pollutants"/>
          <p:cNvPicPr/>
          <p:nvPr/>
        </p:nvPicPr>
        <p:blipFill>
          <a:blip r:embed="rId1"/>
          <a:stretch/>
        </p:blipFill>
        <p:spPr>
          <a:xfrm>
            <a:off x="5562720" y="1828800"/>
            <a:ext cx="345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Ravie"/>
              </a:rPr>
              <a:t>Major Outdoor Air Pollutant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mary – direct products of combustion and evapor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ary – when primary pollutants undergo further reactions in atmosph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uspended particulate matter (primar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olatile Organic Compounds (secondar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rbon Monoxide (primar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itrogen Oxides (can be both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ulfur Oxides(primary from combustion of coal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zone and other photochemical oxidants (secondar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3" descr="carbon-monoxide-black-150"/>
          <p:cNvPicPr/>
          <p:nvPr/>
        </p:nvPicPr>
        <p:blipFill>
          <a:blip r:embed="rId1"/>
          <a:stretch/>
        </p:blipFill>
        <p:spPr>
          <a:xfrm>
            <a:off x="7162920" y="152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ri</dc:creator>
  <dc:description/>
  <dc:language>en-US</dc:language>
  <cp:lastModifiedBy>Teri Osborne</cp:lastModifiedBy>
  <dcterms:modified xsi:type="dcterms:W3CDTF">2012-04-23T05:54:01Z</dcterms:modified>
  <cp:revision>48</cp:revision>
  <dc:subject/>
  <dc:title>PowerPoint Presentation</dc:title>
</cp:coreProperties>
</file>